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media/image10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5A1-6DE1-4216-A967-48BD05D7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97B-84EF-4B18-9384-24B3CDD4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8EC-D3D0-44BB-9245-14A32BC0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C8CB-B5F4-4F62-973F-37115044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1E9-062A-4AAA-829D-90926D2E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B9AE-0EC1-4381-B545-28CC99E9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8FF-9D1B-43BF-825A-6F599CFC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6CD-95DB-4566-8180-480F8BBC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D89-31C2-4033-90B3-99FBDA5C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9C2-1C0D-41A6-8176-9B811678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832-9C85-4372-A064-D84C6464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5BE-F4CC-4B47-9518-36E8E6B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07A-215F-4994-8E50-42DEFABE8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Y PORTFOLIO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AYA PETRA I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1822320" cy="147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2497320" cy="1550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282096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780000" y="1413000"/>
            <a:ext cx="1019160" cy="923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486560" y="0"/>
            <a:ext cx="16574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 ABOUT 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AVROITE SPORT IS BASKETBALL ASWELL AS TENN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AVROITE FOOD IS A ROAST AND TAKE-A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ETS ARE XENA(DEAD),RUBY AND DUCH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GO FOR WESTERN BULLDOGS!!!!!!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941720"/>
            <a:ext cx="1877760" cy="162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1628640"/>
            <a:ext cx="1268280" cy="109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32000" cy="938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084720" y="51436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D=DAR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M=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SISTER=TAH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GE SISTER=TI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=TENA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1841400" cy="16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2:27:02Z</dcterms:created>
  <dc:creator>Admin</dc:creator>
  <dc:description/>
  <dc:language>en-US</dc:language>
  <cp:lastModifiedBy>Admin</cp:lastModifiedBy>
  <dcterms:modified xsi:type="dcterms:W3CDTF">2009-03-12T22:27:23Z</dcterms:modified>
  <cp:revision>4</cp:revision>
  <dc:subject/>
  <dc:title>MY PORTFOLIO!</dc:title>
</cp:coreProperties>
</file>